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1CB-A404-4C0B-AEDB-29F9C947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570-2F70-4347-87C0-151D6264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90FF-B771-48B1-A55B-1D85A8A9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B86-6503-4585-A9E9-E60D1EDC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9B8-475F-41BB-BEA7-E4042433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750-B9FE-458B-B8D4-A5220361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2CDF-C8C9-4380-8D96-48115103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2F1-9600-464C-A828-48549477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24D-6DD0-4CEE-8EAE-80FA18D7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E0F-BC8B-40B4-B050-5C1021FF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BD6-A6EF-4A67-8D3F-9A3C845F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DAA-B999-47D1-AFBF-9084F6B5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CE8E-0AEC-4F69-B56F-8978F00F8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755200" cy="566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3975120" cy="63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5"/>
          <a:stretch/>
        </p:blipFill>
        <p:spPr>
          <a:xfrm>
            <a:off x="896760" y="3860640"/>
            <a:ext cx="3530880" cy="62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6"/>
          <a:stretch/>
        </p:blipFill>
        <p:spPr>
          <a:xfrm>
            <a:off x="34920" y="5300640"/>
            <a:ext cx="456408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642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شر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3"/>
          <a:stretch/>
        </p:blipFill>
        <p:spPr>
          <a:xfrm>
            <a:off x="231840" y="981000"/>
            <a:ext cx="8634240" cy="5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8605800" cy="134136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324000" y="1628640"/>
            <a:ext cx="8569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ؤية الله عز وجل والدليل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5"/>
          <a:stretch/>
        </p:blipFill>
        <p:spPr>
          <a:xfrm>
            <a:off x="2771640" y="2276640"/>
            <a:ext cx="6121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13"/>
          <a:stretch/>
        </p:blipFill>
        <p:spPr>
          <a:xfrm>
            <a:off x="539640" y="2276640"/>
            <a:ext cx="81360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3240"/>
            <a:ext cx="9132840" cy="127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97200" y="4653000"/>
            <a:ext cx="3568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95400" y="828720"/>
            <a:ext cx="898344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75640" cy="460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4680" y="888840"/>
            <a:ext cx="9144000" cy="7700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00536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يسر إلى طريق الجنة من يشاء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4935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ن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954000"/>
            <a:ext cx="3601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 غير المؤمنين وطريق المؤمن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43700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516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وم القيامة نجمع جميع الخل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نام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468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العب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هم إلى دار السلام ويسر سلوك طريقها وهدى من جد في طل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ؤية المؤمنين لربهم جل وعلا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رؤية المؤمنين لربهم جل وعلا في الآخرة 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61620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جازي على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ثلها من غير تضعي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0784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تورثه من حسرة وندامة وما توجبه من خسر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456876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البعث والجز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2484360" y="3030480"/>
            <a:ext cx="6335640" cy="40320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179280" y="506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بلاغة القرآن الكري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رض مشاهد القيامة وتصوير أحوال الآخرة كأنها رأي الع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53896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عبده المشرك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بعبادتهم وسيكون عدواً لهم ويتبراً منهم يوم القي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6027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بادة غير الله سواء كان المعبود نبياً أو ولياً أو حجر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670960" cy="223200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4000" y="342900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ا من سوء السيئة وما تورثه من حسرة وندامة وما توجبه من خسر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7T06:03:02Z</dcterms:modified>
  <cp:revision>1938</cp:revision>
  <dc:subject/>
  <dc:title>عرض تقديمي في PowerPoint</dc:title>
</cp:coreProperties>
</file>